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6.jpeg" ContentType="image/jpe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B8D5-47EF-4B76-88B9-D19FDFA5039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7DFD-51CA-4DD6-9C47-489155D18B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8460-DED4-4F74-A0EE-70A47EDC54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7C0-3F97-4EEB-BD15-828B92A931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3CEA-6333-4E06-9DDF-E947D7939D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47B0-605B-478A-8ED0-2F6060BC00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B4D4-699F-4582-AA30-45C2F3D7D8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1116-CF7C-4D2E-8098-16490DDC02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78D6-785A-4EE5-9CD9-298A14960D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54549-2F21-4BA3-B04A-76996A71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42FA5-3BFD-4A00-B8F3-36C68D3A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0A673-3DEC-4A83-AB3C-0A7D49AC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D361C-FEE1-4CF4-A051-BF463B82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F4A30-CB5D-48D1-86D7-40D9050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440B9-F7C2-4679-AF02-3B08ECF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ADBDD-6DCD-4A62-ADBD-83C687AD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17147-B6EF-4D3D-BE37-770E12C8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C7B4-6776-458C-B85F-6C885007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9619F-320B-442F-A267-FC5948FF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1CEBC-00AF-426B-BD52-B2C3C8D3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C3995-AD6A-41D2-920D-3C42D77E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07FA0-6260-44A8-A68C-8FFD6AAB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66C5E-940E-48C0-87AE-C8208C16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5551-FE0F-4DCE-B48D-95D5A45C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E8A65-600E-4BBF-99A4-3CD0E191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7FEE9-31D8-4FEB-8765-89836D4C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6C407-125A-49B6-8FFF-B159276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01BB9-25E5-498A-8D0C-4B647B6E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D13B8-3B9C-446D-842A-43271857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97771-8ABC-4867-840C-F8E1D766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FD799-E954-48E3-8D31-67B5C532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82564-04F2-4027-96FF-C456840D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24721-40DA-429D-B671-AF94DFFF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2D7BF-C966-4598-B513-A9FD1D32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DA517-0A28-4936-821F-F30493C1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F6312-04AE-408C-96CA-C23A5C47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14DFD-73B9-4036-870A-3A8AC630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A45B2-0512-4C99-A94B-3789741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96A1B-60F8-4E65-9FC5-3798F428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DAF-81A2-4DD7-9EF7-B7CDFF70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139E4-CCDF-4823-A8F6-382BB837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0EED2-F93E-45CF-BB43-9139FE0A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8C91A-5BEE-4270-B79B-AB577B54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C38D1-03B5-478A-8E44-120E61DC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00AED-5B06-4C1F-98A6-7151303B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E2C6A-9DDB-4A5F-8C60-A538AAF4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61DDD-BDB3-4F27-9AC6-FB9FC27D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34D48-EF85-4408-AB0F-7DBA0FCE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A32BF-4388-4C7F-B47B-6241873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58967-4C4B-4A6D-BB4B-D77E8511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884-648F-4AC2-AEDE-9B8C408B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A8221-BD90-4DB1-A093-572DD999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17ADD-17EA-4E3B-8D32-08676890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2569D-D9F4-4211-93CC-1CDBC523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A4122-1D10-4AD2-A868-3D5462C3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C21E3-621B-4460-A413-F61BD8D4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69C33-1F9C-4CA5-A320-94581F6D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4D661-C570-42F3-9F69-01DDC213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627C2-F220-4012-A588-8965C845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532D1-D2F3-4F06-B243-79795285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54E50-CE71-49AC-ABC3-5811F4BA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258-53AB-4670-A4C5-1B484B6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1FB43-708A-4C96-B7B9-728B6E8C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02618-3156-4141-9CDA-EF77A67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50406-F983-4E11-8FC9-9677B881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143F-342A-46EF-9A15-AE596BD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0B8BF-758D-4493-98CB-3953E130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35060-819F-415D-9FB3-F382B91E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1A3A2-AE08-4E15-9411-46841428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63F34-4C77-49CB-8D3C-8739812D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7BD3A-323B-4AED-AF24-186D5C77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5CE5E-1696-44AB-9D1E-EC14E439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2FD-771A-4C64-B9B6-C17667E2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E395A-CDA7-436A-B881-6CBB5E8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1198A-C049-420B-BB25-6DEE896E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F2745-2759-4ABF-9864-17386F4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B3CC7-9573-4C9A-AD23-EFB3AAD9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00E1F-EC13-4505-95E8-2B26CC4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B7C55-DFD9-427F-A31C-6A7A33D6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8AC90-F6A6-4CE4-A242-DA0C722C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DF17E-76F8-4CED-AD9E-A5310C2B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9A7C0-1BE1-4686-90F1-8E85C95F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40001-C2CE-4672-838A-B7FDE340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6AC-19A1-4AE4-8578-9763044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10590-877D-40CA-873B-539E1696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6ACEC-9BDD-44AE-831A-B5C6A016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BDB0D-3241-4821-9A11-1531C253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307B9-032B-4D75-B945-DF5AAAD4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C4DBA-CAF4-4613-BC07-8EA9C84B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658AA-2D8D-4A78-A078-B6CB7B2C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403D4-61E4-4AE8-A323-14FB75C5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CE7C0-E44F-47E4-BDED-1266EC45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1A54C-823A-46E4-8BA7-481F6056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695C5-8A35-4347-B275-8315AAE8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BD3-5576-49B1-AA0A-1D08803A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81C06-268B-43CC-8CBD-34B9764A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1D6E5-9C08-48B8-A1B5-7E4A6DE2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99960-1806-407B-B1CC-E104300E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CE87E-3206-48FE-9327-5C3E5D02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326DA-EA22-4381-88CE-05F8AAB2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EC812-0012-4297-8B4A-AED4EAF9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71FC0-5E85-4F2C-87F5-4253A33B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C55C6-FC78-481E-BD05-46F7D512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D9D6A-82AD-489A-90B7-B18C4CF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ECC12-CE49-4658-AD08-A746DCDA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3BE-A1F2-47E0-A473-F8D56E9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7DEEF-1535-4862-90EF-68A82244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D7DBC-A506-4CB6-9994-5F43A903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B8811-C0CF-4544-B56F-6214CC34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9F7A6-F0E3-4174-BEA2-9BD809E3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43225-C67C-47F1-A7AD-875EA88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78A35-085E-4866-ABAD-C9FD19B8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FE7A2-4C64-44AC-883E-450843C9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987BD-AE5A-4C9F-8FFD-E7ADA2DB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3ABFB-A24D-442A-A4B9-E559D718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210CB-7D54-4D12-9CD2-DF09878C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D32-89FC-4B95-A0C1-75C399F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59D7D-5812-4C00-A957-6B91774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45096-330A-4F28-B7AC-D511AD7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FEA30-99C1-45F5-9F4F-5147EA3F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BC36E-F476-4254-966C-D18D838A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C7A8C-E973-4956-B334-0A026C2F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99BEF-E099-4F00-8D2E-7263A62E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AE8C5-6DF7-4FF3-8A57-ED8317D3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7EFC2-BD14-4B25-B458-94478D98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A4265-6450-4321-B1CB-EB2538FC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E841B-7310-4C62-AD75-694FA14B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C6B-E31B-4B27-9B34-52F8FEB4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69405A-130E-4925-8D32-ADE06F06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FB219-4D45-4945-A621-378F4383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2FF933-5620-42D9-98C7-E44A537C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DDCFE-C001-48C6-92AA-F59F7F1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E0119-F12F-40EC-8722-2877D3E2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1C9FC-8E4D-4832-825E-9109CC49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51FE0-00E1-4B7F-8919-2756BC8A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D2371-7011-4EFC-9680-D6F08164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47CA8B-5EAB-4E50-A7AE-E0451CCE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916FD-6439-4E26-B021-1976263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A61-4A5A-4593-8FA6-A96D76B8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7D631-4894-4833-87CC-A98C1AD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7FAA9-52BD-4767-B12B-64A3E754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7F737-4CB7-4201-9171-84B0D5B7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D7B97-530D-4A75-AA75-6E2CF12F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5806B-EF30-43F1-A4B6-F8A9B3E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D73D1-7DF4-48AB-A7AF-7A4BC0CF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C55E0-173E-497E-B6E3-2429B91D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2EAE5-0FA2-483C-B900-63BE1E18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9D125-2F92-4E1D-A7D7-1A743619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F8919-6922-43BF-BEF2-8708AE70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FCD-DC52-43B0-94D9-59A2C606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E0C81-C70F-4508-9D05-27799170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C67A6-4393-4B48-8199-F9D2F21D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A021B-D075-4D4F-9FD7-4AC8B83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CB834-A2B2-457B-8C94-20D1952B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82991-F02A-45DE-B2E8-4D5800B8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1AEBF-4AA9-4DF0-AD4A-9B0828F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7C8AF-403F-4B4E-996E-E62283B0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0EE82-2B62-451A-B2D5-08C473D0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F57D5-AC30-456B-8B76-A1BDD21F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649FD-3B46-4BA1-BC31-C58355C2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0DF-7D66-4CA8-911F-AEBE991B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642F6-9A71-413F-931C-923813F2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99F6FF-DD70-44EA-9E39-D175FD2C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A2AC69-2458-48F2-AA40-35A682AD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3D7966-009A-4E3C-A081-351ED06E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630F4-1D41-4084-AD37-740466BB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FA19C-06FB-4360-BBDC-FBBEFF02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92086E-8B5C-4BB1-A7B4-BB4E7E61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973C68-0995-4946-951D-0B3E517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935F0-27DD-4932-9FBC-EFB0A6F3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D5A41-2CA7-4FFE-9642-17585DA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A8A6-DADB-4EFF-9298-A0249F37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304E4-4756-44EB-9DF0-FBDC0BCB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F8101-9D8B-40E5-8BED-20DAB7B8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639051-5FA4-40CC-A650-81FF8715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4EF68-70B8-422A-BAC7-7530CFFB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29CA57-AC7B-4124-8C94-018A2AA8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BB23F-DFD3-4D16-BB35-B555001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96079-5730-49B1-AC12-3D5D1B3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3BB0B-2854-4A31-BA9C-71CF7CB3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533426-B1FA-409B-A2A4-9876C501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DEFF3-F083-4E49-B639-2778AFA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177-5C56-40E5-AE1F-76021578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4FE4A0-AC00-4147-8E05-C827AE61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B1FCF6-0144-4520-86A2-8B9B39F1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7B607-3431-4670-88E8-7AE5C6FD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DE546-0F20-4BE9-86CD-A5B3A228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0030A-C278-467A-9D9F-6A18BC83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2CCD2-1B1A-4C4D-B097-5F3102A9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1601A-8CB2-4AAF-BB0A-8A318EC8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49F871-C90B-47FA-880C-82252142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C48C0-ED32-4223-B78F-E471A361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68815-DFDF-41EA-BCA2-6A562C53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0ADA-3F28-4A6D-B7C1-F76D4170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9EA1CB-8B58-4FC3-9ACA-EE99CA44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805B8-F1ED-4F4C-9446-12566EC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407167-E2EF-41D2-94EE-9BDCDDE7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E1FD1-0445-4442-909F-91DE0974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F02B7-E474-4B63-AFEB-17F72D1B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FD89E5-4692-4EA5-905F-395DA514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9951FF-74C0-4720-819D-818E0B64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E0AF3B-E7FD-43A5-B174-C89D66B5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B04829-9F78-4CD1-971C-57990E49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C9CF45-72B8-4A19-BEBD-CB02BEC1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1EF-2AD9-4E6B-AB02-5A4D82E9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A71876-92F4-4679-B2AC-945D6DE1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5D617A-E226-40CA-9AC9-7B73B5D3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56EA6-CB41-4D7F-B978-7F013BFE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8F6A43-E09B-4D02-A85D-DB1091E5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87A049-9ECE-4110-BEBF-54F5E5CE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203A84-80A3-48B6-87BA-5807082F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11710-584E-4AE0-B29C-6FB2B9DF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0A3738-1B3F-4740-8774-4195A66A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58CCE-AE30-4D2E-BF18-23EC96CF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8186CD-E38C-47B3-8585-4227CBFB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2E25-5055-42CE-B7DD-485DDD63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5F4172-1C1C-403F-88A8-EA7F39F1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A8355F-62B8-401A-92C5-CE42BB79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B2D32-6AE6-40E4-A885-88D47CD5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176DA1-C793-49B6-AD6D-9AEC1EC6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CA09FE-2170-4177-BC01-67732334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232733-11B4-4E65-A3B6-E959C0EE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5E2DAD-5E8B-4F80-BC2A-581CD9FA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B838A-9809-4044-B563-530DCB2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11BD91-97F8-49A0-9BC6-D5C67C2B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9F5620-63BC-4804-8F20-B0DEEF32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C4C1-4D5E-4BD4-B05C-26AA56C1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753FAD-B596-445D-A249-AE366F60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9164DF-A938-4245-B08C-719BE35F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A22DFE-9598-4E57-9895-8074F22D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E4B872-7197-428C-A050-29C6D4D4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962085-AC1F-4338-8E15-A013DADA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254DFB-0212-44E0-88BD-7857093D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F9FBA2-A9DF-40D0-83C9-BD361278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106018-BBB3-40D5-B25E-B19E9BE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7C3834-FB82-4A98-954D-6DB0F27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28BBAC-199F-410B-AB02-1A0053FE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9AB4-6267-4D83-8D2D-CDA99C4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A20BFA-F641-43D8-AB5F-C637E054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F42F4C-DC6C-45FC-8423-53A73583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19FC3-A6F1-482D-90C9-C3565A2B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64683D-7B4E-43B2-9727-79A508F0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F9AFCC-5771-4614-A502-3902564D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2E8681-4DA2-433C-AAB0-76C63BC1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AB7B99-BF9C-4EF1-AC4F-F39C5365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C91FD8-841A-4531-98D5-24F1E0A1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4461B4-A6E5-4DD0-B454-CB2ED6C4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EC1F19-DFBE-45DA-A9DB-A5FFDB1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0F5E-384F-47B2-8A8D-13322C6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818E96-7DB2-494B-AF4A-E67FCEC4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324B8A-93FC-4AD7-95CF-012F2777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927AAC-B498-4A52-AD17-84821EC4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44850F-42EB-4824-B8DB-66C914BA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9959DB-1901-40D4-9D45-BFC99D19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CF1592-19BB-404D-AED7-081183F6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FA4082-8FA4-406E-AC26-3B67E8AC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BA087B-7F0A-4F1D-B3A6-0D860E23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724154-A75F-4AA5-9019-5F70C2CF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80EB76-F91D-40C6-80BC-CFD67444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9F4D-888A-4F0D-8075-59C20EF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C76ED3-2ACA-4A5D-8C9E-263FF9F9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5700DD-7E1B-404E-9F3E-1BA0AD82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D6DD48-989C-4760-AD55-A31708AE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876971-C470-4D06-AB41-53418E7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7D57BE-97E6-4211-97DB-3936D2CF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DA60FA-820B-4F2C-8392-C729AAA3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8A9B99-61BD-4627-9BD0-1E5B1F38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317B-CB2F-4476-BCE7-22CB65D1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FC5F-08D1-4B28-84C4-C26C44B3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5E04-5782-4995-8155-9B4DEE6C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A715-5CC3-4BB6-9EA6-15AA6F6A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304F-D805-4133-946C-0D021639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EB58-AE42-403A-9E19-2E7B8FA6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669B-E281-4BC0-8BC8-02B9E83B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BB78-6AE7-41CA-9CF5-A6750ABD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1685-E839-4544-A58F-A036EF97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DE78-84A0-494A-8452-67BFF52F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2EEC-EF2C-4431-9F35-4AF348A7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6968-B795-412D-92A9-7A495ED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4F87-94C9-4921-B59E-85C73FD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98B5-B288-4E6D-9793-7F62DA35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7E8A-7423-4F62-8DA0-509A666B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3E65-0703-4B19-890A-548065FC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7C1F5-62C4-40D0-AF08-B9EF0510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9736-835A-4FC5-9C15-B5FD2FB9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FE49-0155-4BAF-AB27-70B5F5DC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C347-2225-42E5-BE72-31EAA4D3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AFA6-2F3F-4FCF-B5BF-8B131A04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BFCB-00C4-4FA1-A75D-3E10E921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F06A-E53E-4D7C-BD2C-17A7374F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07380-E991-4800-ADDE-D26F5FB9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B331-FA98-4FF6-A9B6-599A092B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8F8E6-C89A-4E84-AEDE-74CED2E0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9B7B3-E01C-40C1-B396-1CE935BC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1702-AD21-4D75-A981-3C80F15D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9574A-F148-43E2-8020-CAEB13EB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6EED1-CF0C-409D-9B6C-3DE8766B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5A4E1-88AA-41B5-8209-E5EB9590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6B32-D1B8-4F1D-95FA-E18D166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85598-DFA0-4A4C-BC91-7A26116C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BFD83-D6D2-4C3A-913E-73A6894D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3A188-59C2-4C35-B634-95353366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4ED24-DBB5-4CC3-86C7-DFE9CFD1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B5257-7A46-4728-AA21-063170B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9578C-55B7-475A-9EA8-66D500E3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F9BD-6276-4F09-A639-FADDA6A5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7EFD-F99E-452E-B2ED-9EFF2EF9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F0CB-72F7-41AA-BEB0-ADDF10B9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4655C-D990-4457-B788-85C1587B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2DA5D-7D94-471B-A7E9-91B23A7E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56F3-BB2B-4ED6-BCBA-7694CFF9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9139-9A8C-49A9-8FBE-8D77E745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D4DCB-F61D-432A-8B85-9B48EB0C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C89B-F143-44C9-A90C-D364882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B26CB-43FA-4AFA-A021-F8928DA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AD99-583E-4E75-8CBB-A3182F8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9F6D1-24BB-48F7-BCA8-00302014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9CF84-A728-4A8B-A7B6-AD7F559B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A580-D2EC-43AF-815A-24BFBBAB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9971E-61D4-49CA-B604-1C3E8BEB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C0895-07C2-4734-AF42-C3F8BC1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2C5E-3220-43F5-A587-4A50728D17B3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B2D2-1D22-4908-8F3D-391ED5D9E587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1B61-27D0-493D-8981-60419DB8F742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F7A2-657D-4546-AA05-6D6C06DAB9F7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EE29-2233-4ABC-9D0E-646E88F3AB54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97B4-70EE-4A21-AD4F-440D4A35F58B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17CB-720D-41E3-B13F-685B6124CC6C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6DE8-F30F-4A7B-B99D-3C92F01F3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1927-98A9-494B-8FB4-2CEA123BB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0F48-A73B-4827-885C-F10F1E6B1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B889-AB20-4B3F-94A9-33BA4142CCBD}" type="slidenum">
              <a: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DD2A-D847-4902-BF6E-7B9EBF15B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E777-0A41-4088-AE5A-FCC914A46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4966-4016-448F-B61C-551BCB43A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999D-A439-4935-88CE-429A901BF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2AA0-6849-43C7-87DC-01B1DBB9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070B-9F81-4D2F-B9C5-D903761DA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EA7B-ACDE-47F3-8253-22729AB43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6A09-115B-49B0-9A4A-2DAB9605E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5F1F-9732-4CC0-986C-05EECA6AC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63B5-FA39-4D61-B519-FF99BD76C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al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371160"/>
            <a:ext cx="53341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5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45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71680" y="888840"/>
            <a:ext cx="85723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167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71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5D7F-C4EB-4BFB-99F2-80BB907A81F9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09A7-ED5F-4C5C-946B-E5BD1C872027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525A-BF8D-4E53-8208-573EE0A81378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A8B9-88DA-402F-8A5E-D4DFD386F174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62DD-77A9-4A16-AFBE-62610DABEB3F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redator-Prey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  <a:ea typeface="DejaVu Sans"/>
              </a:rPr>
              <a:t>Generic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78" name="Picture 4" descr=""/>
          <p:cNvPicPr/>
          <p:nvPr/>
        </p:nvPicPr>
        <p:blipFill>
          <a:blip r:embed="rId1"/>
          <a:srcRect l="1633" t="0" r="1633" b="0"/>
          <a:stretch/>
        </p:blipFill>
        <p:spPr>
          <a:xfrm>
            <a:off x="1116000" y="1413000"/>
            <a:ext cx="5904000" cy="2200320"/>
          </a:xfrm>
          <a:prstGeom prst="rect">
            <a:avLst/>
          </a:prstGeom>
          <a:ln w="0">
            <a:noFill/>
          </a:ln>
        </p:spPr>
      </p:pic>
      <p:sp>
        <p:nvSpPr>
          <p:cNvPr id="1279" name="Text Box 3"/>
          <p:cNvSpPr/>
          <p:nvPr/>
        </p:nvSpPr>
        <p:spPr>
          <a:xfrm>
            <a:off x="1149120" y="4149720"/>
            <a:ext cx="682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f(x): prey growth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g(y): predator mortalit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h(x, y): predation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e: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Lotka-Volterra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81" name="Picture 5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113440" cy="2390760"/>
          </a:xfrm>
          <a:prstGeom prst="rect">
            <a:avLst/>
          </a:prstGeom>
          <a:ln w="0">
            <a:noFill/>
          </a:ln>
        </p:spPr>
      </p:pic>
      <p:sp>
        <p:nvSpPr>
          <p:cNvPr id="1282" name="Text Box 4"/>
          <p:cNvSpPr/>
          <p:nvPr/>
        </p:nvSpPr>
        <p:spPr>
          <a:xfrm>
            <a:off x="1289520" y="4737240"/>
            <a:ext cx="664704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e: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 and b: predation coefficients (b=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2" descr="figure 18-10 #19010.jpg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838080" y="933480"/>
            <a:ext cx="7772400" cy="592452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Geneva"/>
              </a:rPr>
              <a:t>Predator-prey population fluctuations in Lotka-Volterra mod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at populations of rabbits and wolves are described by the Lotka-Volterra equations wit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8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0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sured in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initially 40 wolfes and 1000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rabbits population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4"/>
          <p:cNvSpPr/>
          <p:nvPr/>
        </p:nvSpPr>
        <p:spPr>
          <a:xfrm>
            <a:off x="1427760" y="5157720"/>
            <a:ext cx="58089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: prey mortality by pre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b: predation growth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hase plan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572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 of one species in relation to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Picture 11" descr="090602"/>
          <p:cNvPicPr/>
          <p:nvPr/>
        </p:nvPicPr>
        <p:blipFill>
          <a:blip r:embed="rId1"/>
          <a:stretch/>
        </p:blipFill>
        <p:spPr>
          <a:xfrm>
            <a:off x="1187280" y="2060640"/>
            <a:ext cx="6193080" cy="45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hase trajectories: solution curv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71680" y="1268280"/>
            <a:ext cx="85723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hase trajectory is a path traced out  by solution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ime goes 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Picture 10" descr="090602"/>
          <p:cNvPicPr/>
          <p:nvPr/>
        </p:nvPicPr>
        <p:blipFill>
          <a:blip r:embed="rId1"/>
          <a:stretch/>
        </p:blipFill>
        <p:spPr>
          <a:xfrm>
            <a:off x="1547640" y="2565360"/>
            <a:ext cx="5545440" cy="40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quilibrium poi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3944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oint (1000, 80) is inside all the solution curves.  It corresponds to the  equilibrium solution 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00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80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Picture 13" descr="090602"/>
          <p:cNvPicPr/>
          <p:nvPr/>
        </p:nvPicPr>
        <p:blipFill>
          <a:blip r:embed="rId1"/>
          <a:stretch/>
        </p:blipFill>
        <p:spPr>
          <a:xfrm>
            <a:off x="1692360" y="2565360"/>
            <a:ext cx="5400720" cy="39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cknowledgments and than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hanks to the following professors for making slides available on the internet that were reused by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dessamad Tridane (AS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een Ledder (Univ of Nebras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ger Day (Illinois State Univers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2" descr="figure 17-03.jpg                                               0000A6A3Discovering 2.0 IRCD           B562F59D:"/>
          <p:cNvPicPr/>
          <p:nvPr/>
        </p:nvPicPr>
        <p:blipFill>
          <a:blip r:embed="rId1"/>
          <a:stretch/>
        </p:blipFill>
        <p:spPr>
          <a:xfrm>
            <a:off x="584280" y="1484280"/>
            <a:ext cx="8535960" cy="4707000"/>
          </a:xfrm>
          <a:prstGeom prst="rect">
            <a:avLst/>
          </a:prstGeom>
          <a:ln w="0">
            <a:noFill/>
          </a:ln>
        </p:spPr>
      </p:pic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nature red in tooth and claw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4" descr="http://www-rohan.sdsu.edu/~jmahaffy/courses/f00/math122/lectures/qual_de2/images/mr285.jpg"/>
          <p:cNvPicPr/>
          <p:nvPr/>
        </p:nvPicPr>
        <p:blipFill>
          <a:blip r:embed="rId1"/>
          <a:stretch/>
        </p:blipFill>
        <p:spPr>
          <a:xfrm>
            <a:off x="826920" y="476280"/>
            <a:ext cx="7078680" cy="4719600"/>
          </a:xfrm>
          <a:prstGeom prst="rect">
            <a:avLst/>
          </a:prstGeom>
          <a:ln w="0">
            <a:noFill/>
          </a:ln>
        </p:spPr>
      </p:pic>
      <p:sp>
        <p:nvSpPr>
          <p:cNvPr id="1218" name="TextBox 4"/>
          <p:cNvSpPr/>
          <p:nvPr/>
        </p:nvSpPr>
        <p:spPr>
          <a:xfrm>
            <a:off x="826920" y="5373720"/>
            <a:ext cx="7778880" cy="94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ne species uses another as a food resource: lynx and har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Picture 2" descr="figure 18-01b.jpg     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56386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The Hudson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s Bay Company 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" descr="figure 18-02 #1902.jpg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971640" y="1449360"/>
            <a:ext cx="7345440" cy="5432400"/>
          </a:xfrm>
          <a:prstGeom prst="rect">
            <a:avLst/>
          </a:prstGeom>
          <a:ln w="0">
            <a:noFill/>
          </a:ln>
        </p:spPr>
      </p:pic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hare and lynx populations (Canada)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826920" y="10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Note regular periodicity, and lag by lynx population peaks just after hare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486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incipal cause of death among the pre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being eaten by a pred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rth and survival rates of the predators depe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ir available food supply—namely, the pr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6" name="Picture 1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3673440" cy="27540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2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129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38836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</a:rPr>
              <a:t>Two species encounter each other at a rate that is proportional to both population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Picture 1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6466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3"/>
          <p:cNvSpPr/>
          <p:nvPr/>
        </p:nvSpPr>
        <p:spPr>
          <a:xfrm>
            <a:off x="2818800" y="153180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Calibri"/>
                <a:ea typeface="Calibri"/>
              </a:rPr>
              <a:t>normal prey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4"/>
          <p:cNvGrpSpPr/>
          <p:nvPr/>
        </p:nvGrpSpPr>
        <p:grpSpPr>
          <a:xfrm>
            <a:off x="564120" y="1892160"/>
            <a:ext cx="3107880" cy="1341720"/>
            <a:chOff x="564120" y="1892160"/>
            <a:chExt cx="3107880" cy="1341720"/>
          </a:xfrm>
        </p:grpSpPr>
        <p:sp>
          <p:nvSpPr>
            <p:cNvPr id="1233" name="AutoShape 5"/>
            <p:cNvSpPr/>
            <p:nvPr/>
          </p:nvSpPr>
          <p:spPr>
            <a:xfrm>
              <a:off x="2300400" y="209088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"/>
            <p:cNvSpPr/>
            <p:nvPr/>
          </p:nvSpPr>
          <p:spPr>
            <a:xfrm>
              <a:off x="564120" y="1892160"/>
              <a:ext cx="187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prey pop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4967280" y="1895400"/>
            <a:ext cx="3537000" cy="2982600"/>
            <a:chOff x="4967280" y="1895400"/>
            <a:chExt cx="3537000" cy="2982600"/>
          </a:xfrm>
        </p:grpSpPr>
        <p:grpSp>
          <p:nvGrpSpPr>
            <p:cNvPr id="1236" name="Group 8"/>
            <p:cNvGrpSpPr/>
            <p:nvPr/>
          </p:nvGrpSpPr>
          <p:grpSpPr>
            <a:xfrm>
              <a:off x="4967280" y="2857680"/>
              <a:ext cx="1371600" cy="1368000"/>
              <a:chOff x="4967280" y="2857680"/>
              <a:chExt cx="1371600" cy="1368000"/>
            </a:xfrm>
          </p:grpSpPr>
          <p:pic>
            <p:nvPicPr>
              <p:cNvPr id="1237" name="Picture 9" descr="hare_OUTLINE"/>
              <p:cNvPicPr/>
              <p:nvPr/>
            </p:nvPicPr>
            <p:blipFill>
              <a:blip r:embed="rId1"/>
              <a:srcRect l="0" t="16798" r="0" b="16798"/>
              <a:stretch/>
            </p:blipFill>
            <p:spPr>
              <a:xfrm>
                <a:off x="4968000" y="285768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Picture 10" descr="hare"/>
              <p:cNvPicPr/>
              <p:nvPr/>
            </p:nvPicPr>
            <p:blipFill>
              <a:blip r:embed="rId2"/>
              <a:srcRect l="0" t="16798" r="0" b="16798"/>
              <a:stretch/>
            </p:blipFill>
            <p:spPr>
              <a:xfrm>
                <a:off x="4967280" y="286056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9" name="Group 11"/>
            <p:cNvGrpSpPr/>
            <p:nvPr/>
          </p:nvGrpSpPr>
          <p:grpSpPr>
            <a:xfrm>
              <a:off x="6116760" y="2859120"/>
              <a:ext cx="1371600" cy="1368000"/>
              <a:chOff x="6116760" y="2859120"/>
              <a:chExt cx="1371600" cy="1368000"/>
            </a:xfrm>
          </p:grpSpPr>
          <p:pic>
            <p:nvPicPr>
              <p:cNvPr id="1240" name="Picture 12" descr="hare_OUTLINE"/>
              <p:cNvPicPr/>
              <p:nvPr/>
            </p:nvPicPr>
            <p:blipFill>
              <a:blip r:embed="rId3"/>
              <a:srcRect l="0" t="16798" r="0" b="16798"/>
              <a:stretch/>
            </p:blipFill>
            <p:spPr>
              <a:xfrm>
                <a:off x="6117480" y="285912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13" descr="hare"/>
              <p:cNvPicPr/>
              <p:nvPr/>
            </p:nvPicPr>
            <p:blipFill>
              <a:blip r:embed="rId4"/>
              <a:srcRect l="0" t="16798" r="0" b="16798"/>
              <a:stretch/>
            </p:blipFill>
            <p:spPr>
              <a:xfrm>
                <a:off x="6116760" y="286200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14"/>
            <p:cNvGrpSpPr/>
            <p:nvPr/>
          </p:nvGrpSpPr>
          <p:grpSpPr>
            <a:xfrm>
              <a:off x="4969080" y="3510000"/>
              <a:ext cx="1371600" cy="1368000"/>
              <a:chOff x="4969080" y="3510000"/>
              <a:chExt cx="1371600" cy="1368000"/>
            </a:xfrm>
          </p:grpSpPr>
          <p:pic>
            <p:nvPicPr>
              <p:cNvPr id="1243" name="Picture 15" descr="hare_OUTLINE"/>
              <p:cNvPicPr/>
              <p:nvPr/>
            </p:nvPicPr>
            <p:blipFill>
              <a:blip r:embed="rId5"/>
              <a:srcRect l="0" t="16798" r="0" b="16798"/>
              <a:stretch/>
            </p:blipFill>
            <p:spPr>
              <a:xfrm>
                <a:off x="4969800" y="351000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4" name="Picture 16" descr="hare"/>
              <p:cNvPicPr/>
              <p:nvPr/>
            </p:nvPicPr>
            <p:blipFill>
              <a:blip r:embed="rId6"/>
              <a:srcRect l="0" t="16798" r="0" b="16798"/>
              <a:stretch/>
            </p:blipFill>
            <p:spPr>
              <a:xfrm>
                <a:off x="4969080" y="351288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5" name="Group 17"/>
            <p:cNvGrpSpPr/>
            <p:nvPr/>
          </p:nvGrpSpPr>
          <p:grpSpPr>
            <a:xfrm>
              <a:off x="6116760" y="3505320"/>
              <a:ext cx="1371600" cy="1368000"/>
              <a:chOff x="6116760" y="3505320"/>
              <a:chExt cx="1371600" cy="1368000"/>
            </a:xfrm>
          </p:grpSpPr>
          <p:pic>
            <p:nvPicPr>
              <p:cNvPr id="1246" name="Picture 18" descr="hare_OUTLINE"/>
              <p:cNvPicPr/>
              <p:nvPr/>
            </p:nvPicPr>
            <p:blipFill>
              <a:blip r:embed="rId7"/>
              <a:srcRect l="0" t="16798" r="0" b="16798"/>
              <a:stretch/>
            </p:blipFill>
            <p:spPr>
              <a:xfrm>
                <a:off x="6117480" y="350532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7" name="Picture 19" descr="hare"/>
              <p:cNvPicPr/>
              <p:nvPr/>
            </p:nvPicPr>
            <p:blipFill>
              <a:blip r:embed="rId8"/>
              <a:srcRect l="0" t="16798" r="0" b="16798"/>
              <a:stretch/>
            </p:blipFill>
            <p:spPr>
              <a:xfrm>
                <a:off x="6116760" y="350820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8" name="AutoShape 20"/>
            <p:cNvSpPr/>
            <p:nvPr/>
          </p:nvSpPr>
          <p:spPr>
            <a:xfrm rot="5400000">
              <a:off x="5400360" y="2217600"/>
              <a:ext cx="1143000" cy="114300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1"/>
            <p:cNvSpPr/>
            <p:nvPr/>
          </p:nvSpPr>
          <p:spPr>
            <a:xfrm>
              <a:off x="6572520" y="1895400"/>
              <a:ext cx="19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prey popul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22"/>
          <p:cNvGrpSpPr/>
          <p:nvPr/>
        </p:nvGrpSpPr>
        <p:grpSpPr>
          <a:xfrm>
            <a:off x="6408720" y="2733840"/>
            <a:ext cx="2895480" cy="2866320"/>
            <a:chOff x="6408720" y="2733840"/>
            <a:chExt cx="2895480" cy="2866320"/>
          </a:xfrm>
        </p:grpSpPr>
        <p:sp>
          <p:nvSpPr>
            <p:cNvPr id="1251" name="Rectangle 23"/>
            <p:cNvSpPr/>
            <p:nvPr/>
          </p:nvSpPr>
          <p:spPr>
            <a:xfrm>
              <a:off x="6408720" y="468324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  <a:ea typeface="Calibri"/>
                </a:rPr>
                <a:t>predator population increas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  <a:ea typeface="Calibri"/>
                </a:rPr>
                <a:t>as more f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Group 24"/>
            <p:cNvGrpSpPr/>
            <p:nvPr/>
          </p:nvGrpSpPr>
          <p:grpSpPr>
            <a:xfrm>
              <a:off x="6911640" y="2733840"/>
              <a:ext cx="1539360" cy="1982520"/>
              <a:chOff x="6911640" y="2733840"/>
              <a:chExt cx="1539360" cy="1982520"/>
            </a:xfrm>
          </p:grpSpPr>
          <p:pic>
            <p:nvPicPr>
              <p:cNvPr id="1253" name="Picture 25" descr="hare_OUTLINE"/>
              <p:cNvPicPr/>
              <p:nvPr/>
            </p:nvPicPr>
            <p:blipFill>
              <a:blip r:embed="rId9"/>
              <a:srcRect l="12598" t="16798" r="12598" b="16798"/>
              <a:stretch/>
            </p:blipFill>
            <p:spPr>
              <a:xfrm flipH="1">
                <a:off x="6911640" y="2733840"/>
                <a:ext cx="1435320" cy="19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Picture 26" descr="cat"/>
              <p:cNvPicPr/>
              <p:nvPr/>
            </p:nvPicPr>
            <p:blipFill>
              <a:blip r:embed="rId10"/>
              <a:srcRect l="12598" t="16798" r="12598" b="16798"/>
              <a:stretch/>
            </p:blipFill>
            <p:spPr>
              <a:xfrm flipH="1">
                <a:off x="7014960" y="2802960"/>
                <a:ext cx="1436040" cy="1913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Group 27"/>
            <p:cNvGrpSpPr/>
            <p:nvPr/>
          </p:nvGrpSpPr>
          <p:grpSpPr>
            <a:xfrm>
              <a:off x="7748640" y="2746440"/>
              <a:ext cx="1539000" cy="1982880"/>
              <a:chOff x="7748640" y="2746440"/>
              <a:chExt cx="1539000" cy="1982880"/>
            </a:xfrm>
          </p:grpSpPr>
          <p:pic>
            <p:nvPicPr>
              <p:cNvPr id="1256" name="Picture 28" descr="hare_OUTLINE"/>
              <p:cNvPicPr/>
              <p:nvPr/>
            </p:nvPicPr>
            <p:blipFill>
              <a:blip r:embed="rId11"/>
              <a:srcRect l="12598" t="16798" r="12598" b="16798"/>
              <a:stretch/>
            </p:blipFill>
            <p:spPr>
              <a:xfrm flipH="1">
                <a:off x="7748640" y="2746440"/>
                <a:ext cx="1434960" cy="19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Picture 29" descr="cat"/>
              <p:cNvPicPr/>
              <p:nvPr/>
            </p:nvPicPr>
            <p:blipFill>
              <a:blip r:embed="rId12"/>
              <a:srcRect l="12598" t="16798" r="12598" b="16798"/>
              <a:stretch/>
            </p:blipFill>
            <p:spPr>
              <a:xfrm flipH="1">
                <a:off x="7851960" y="2815560"/>
                <a:ext cx="1435680" cy="1913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58" name="Group 30"/>
          <p:cNvGrpSpPr/>
          <p:nvPr/>
        </p:nvGrpSpPr>
        <p:grpSpPr>
          <a:xfrm>
            <a:off x="539640" y="2730600"/>
            <a:ext cx="2845080" cy="3118320"/>
            <a:chOff x="539640" y="2730600"/>
            <a:chExt cx="2845080" cy="3118320"/>
          </a:xfrm>
        </p:grpSpPr>
        <p:sp>
          <p:nvSpPr>
            <p:cNvPr id="1259" name="AutoShape 31"/>
            <p:cNvSpPr/>
            <p:nvPr/>
          </p:nvSpPr>
          <p:spPr>
            <a:xfrm rot="16200000">
              <a:off x="2127240" y="455904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2"/>
            <p:cNvSpPr/>
            <p:nvPr/>
          </p:nvSpPr>
          <p:spPr>
            <a:xfrm>
              <a:off x="539640" y="4657680"/>
              <a:ext cx="205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  <a:ea typeface="Calibri"/>
                </a:rPr>
                <a:t>predator population 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  <a:ea typeface="Calibri"/>
                </a:rPr>
                <a:t>as less f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1" name="Group 33"/>
            <p:cNvGrpSpPr/>
            <p:nvPr/>
          </p:nvGrpSpPr>
          <p:grpSpPr>
            <a:xfrm>
              <a:off x="1079640" y="2730600"/>
              <a:ext cx="1539360" cy="1982520"/>
              <a:chOff x="1079640" y="2730600"/>
              <a:chExt cx="1539360" cy="1982520"/>
            </a:xfrm>
          </p:grpSpPr>
          <p:pic>
            <p:nvPicPr>
              <p:cNvPr id="1262" name="Picture 34" descr="hare_OUTLINE"/>
              <p:cNvPicPr/>
              <p:nvPr/>
            </p:nvPicPr>
            <p:blipFill>
              <a:blip r:embed="rId13"/>
              <a:srcRect l="12598" t="16798" r="12598" b="16798"/>
              <a:stretch/>
            </p:blipFill>
            <p:spPr>
              <a:xfrm flipH="1">
                <a:off x="1079640" y="2730600"/>
                <a:ext cx="1435320" cy="19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Picture 35" descr="cat"/>
              <p:cNvPicPr/>
              <p:nvPr/>
            </p:nvPicPr>
            <p:blipFill>
              <a:blip r:embed="rId14"/>
              <a:srcRect l="12598" t="16798" r="12598" b="16798"/>
              <a:stretch/>
            </p:blipFill>
            <p:spPr>
              <a:xfrm flipH="1">
                <a:off x="1182960" y="2799720"/>
                <a:ext cx="1436040" cy="191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4" name="Group 37"/>
          <p:cNvGrpSpPr/>
          <p:nvPr/>
        </p:nvGrpSpPr>
        <p:grpSpPr>
          <a:xfrm>
            <a:off x="3740040" y="1506600"/>
            <a:ext cx="1371600" cy="1368000"/>
            <a:chOff x="3740040" y="1506600"/>
            <a:chExt cx="1371600" cy="1368000"/>
          </a:xfrm>
        </p:grpSpPr>
        <p:pic>
          <p:nvPicPr>
            <p:cNvPr id="1265" name="Picture 38" descr="hare_OUTLINE"/>
            <p:cNvPicPr/>
            <p:nvPr/>
          </p:nvPicPr>
          <p:blipFill>
            <a:blip r:embed="rId15"/>
            <a:srcRect l="0" t="16798" r="0" b="16798"/>
            <a:stretch/>
          </p:blipFill>
          <p:spPr>
            <a:xfrm>
              <a:off x="3740760" y="1506600"/>
              <a:ext cx="137088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39" descr="hare"/>
            <p:cNvPicPr/>
            <p:nvPr/>
          </p:nvPicPr>
          <p:blipFill>
            <a:blip r:embed="rId16"/>
            <a:srcRect l="0" t="16798" r="0" b="16798"/>
            <a:stretch/>
          </p:blipFill>
          <p:spPr>
            <a:xfrm>
              <a:off x="3740040" y="1509480"/>
              <a:ext cx="1370880" cy="13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Group 40"/>
          <p:cNvGrpSpPr/>
          <p:nvPr/>
        </p:nvGrpSpPr>
        <p:grpSpPr>
          <a:xfrm>
            <a:off x="3672000" y="2155680"/>
            <a:ext cx="1371600" cy="1368360"/>
            <a:chOff x="3672000" y="2155680"/>
            <a:chExt cx="1371600" cy="1368360"/>
          </a:xfrm>
        </p:grpSpPr>
        <p:pic>
          <p:nvPicPr>
            <p:cNvPr id="1268" name="Picture 41" descr="hare_OUTLINE"/>
            <p:cNvPicPr/>
            <p:nvPr/>
          </p:nvPicPr>
          <p:blipFill>
            <a:blip r:embed="rId17"/>
            <a:srcRect l="0" t="16798" r="0" b="16798"/>
            <a:stretch/>
          </p:blipFill>
          <p:spPr>
            <a:xfrm>
              <a:off x="3672720" y="2155680"/>
              <a:ext cx="1370880" cy="136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42" descr="hare"/>
            <p:cNvPicPr/>
            <p:nvPr/>
          </p:nvPicPr>
          <p:blipFill>
            <a:blip r:embed="rId18"/>
            <a:srcRect l="0" t="16798" r="0" b="16798"/>
            <a:stretch/>
          </p:blipFill>
          <p:spPr>
            <a:xfrm>
              <a:off x="3672000" y="2158560"/>
              <a:ext cx="1370880" cy="136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0" name="Group 43"/>
          <p:cNvGrpSpPr/>
          <p:nvPr/>
        </p:nvGrpSpPr>
        <p:grpSpPr>
          <a:xfrm>
            <a:off x="2539080" y="4682880"/>
            <a:ext cx="3999960" cy="1846440"/>
            <a:chOff x="2539080" y="4682880"/>
            <a:chExt cx="3999960" cy="1846440"/>
          </a:xfrm>
        </p:grpSpPr>
        <p:sp>
          <p:nvSpPr>
            <p:cNvPr id="1271" name="AutoShape 44"/>
            <p:cNvSpPr/>
            <p:nvPr/>
          </p:nvSpPr>
          <p:spPr>
            <a:xfrm rot="10800000">
              <a:off x="5167440" y="468288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45"/>
            <p:cNvSpPr/>
            <p:nvPr/>
          </p:nvSpPr>
          <p:spPr>
            <a:xfrm>
              <a:off x="2539080" y="5856120"/>
              <a:ext cx="3033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prey population 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because of more pred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3" name="Group 46"/>
            <p:cNvGrpSpPr/>
            <p:nvPr/>
          </p:nvGrpSpPr>
          <p:grpSpPr>
            <a:xfrm>
              <a:off x="3743280" y="4746600"/>
              <a:ext cx="1371600" cy="1368000"/>
              <a:chOff x="3743280" y="4746600"/>
              <a:chExt cx="1371600" cy="1368000"/>
            </a:xfrm>
          </p:grpSpPr>
          <p:pic>
            <p:nvPicPr>
              <p:cNvPr id="1274" name="Picture 47" descr="hare_OUTLINE"/>
              <p:cNvPicPr/>
              <p:nvPr/>
            </p:nvPicPr>
            <p:blipFill>
              <a:blip r:embed="rId19"/>
              <a:srcRect l="0" t="16798" r="0" b="16798"/>
              <a:stretch/>
            </p:blipFill>
            <p:spPr>
              <a:xfrm>
                <a:off x="3744000" y="474660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Picture 48" descr="hare"/>
              <p:cNvPicPr/>
              <p:nvPr/>
            </p:nvPicPr>
            <p:blipFill>
              <a:blip r:embed="rId20"/>
              <a:srcRect l="0" t="16798" r="0" b="16798"/>
              <a:stretch/>
            </p:blipFill>
            <p:spPr>
              <a:xfrm>
                <a:off x="3743280" y="474948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cyc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Pedro Andrade</cp:lastModifiedBy>
  <cp:lastPrinted>2012-10-26T17:22:49Z</cp:lastPrinted>
  <dcterms:modified xsi:type="dcterms:W3CDTF">2016-07-19T17:57:45Z</dcterms:modified>
  <cp:revision>478</cp:revision>
  <dc:subject/>
  <dc:title>Low-carbon growth in Brazil?</dc:title>
</cp:coreProperties>
</file>